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471-E452-4EAC-BB34-F55994E2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93B-C822-4822-A567-6CC7A09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61A-DC46-4B59-88A1-5A7AC30F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780-E7D8-4A93-ACC8-0DF5AA2A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EC13-C8A3-42CB-B027-48A3894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347-780A-4893-B33E-FC92EFF5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5F1-04B8-459F-99B6-2C59E1FF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3B3-FA0B-4923-A206-B713EA31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C0C-0B73-4775-8C50-E147305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C04D-5BFA-491D-87A3-CCECC068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F57-2684-477D-82E1-56D5323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F39-0CD0-4CF9-B069-9708A72E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E98-249F-4107-A49D-03A5740A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29200"/>
            <a:ext cx="800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800600"/>
            <a:ext cx="739116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اليوم، عُلّقَ على خشب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ذي علَّقَ الأرضَ على المياه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4572000" cy="90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كليلٌ من شوك وُضِعَ على هامةِ ملكِ الملائك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برفيراً كاذبا أُلبِسَ، الذي وشَّح السماءَ بالغيوم </a:t>
            </a:r>
            <a:r>
              <a:rPr b="0" lang="ar-SA" sz="5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4114800" cy="85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قبِلَ لطمةً ، الذي أعتقَ آدمَ في الأُرد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Simplified Arabic"/>
              </a:rPr>
              <a:t>ختَنُ البيعةِ سُمِّرَ بالمسامي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وابن العذراءِ طُعِنَ بحربة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2895840" cy="85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Simplified Arabic"/>
              </a:rPr>
              <a:t>نسجدُ لآلِمِكَ أيها المسيح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9999ff"/>
                </a:solidFill>
                <a:latin typeface="Times New Roman"/>
                <a:cs typeface="Times New Roman"/>
              </a:rPr>
              <a:t>فأَرِنا قيامَتَكَ المجيدة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47:04Z</dcterms:created>
  <dc:creator>SUZANNE.MD</dc:creator>
  <dc:description/>
  <dc:language>en-US</dc:language>
  <cp:lastModifiedBy>HANI SAFI</cp:lastModifiedBy>
  <dcterms:modified xsi:type="dcterms:W3CDTF">2003-04-16T13:52:11Z</dcterms:modified>
  <cp:revision>2</cp:revision>
  <dc:subject/>
  <dc:title>PowerPoint Presentation</dc:title>
</cp:coreProperties>
</file>